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573-AA71-4AC5-9AA3-F5FB7260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300-9572-4918-A8BC-5A9F4902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563-F3B2-45D4-A2C6-0C224E81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6B6-5594-43F6-A728-EDE11255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8172-0EFD-43BE-900F-EDF90938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96B0-5A1A-4459-A639-D85CECF2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A8EE-0CE0-433A-9F2C-373C3785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1221-1DA4-4845-9A5E-FD8B236D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9C96-77AA-4E5C-9DB1-5457E4B2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C265-09B7-42F1-93BD-3F910E05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36A4-ED37-4E11-8A7B-019D5DDC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B46-64EB-4C10-8F4C-402394B4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D63C-002F-459E-83DB-679AC22D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3A8C-8405-4E6A-A25A-7C0056BB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825C-2779-4BE6-8081-37B033B0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B0CE-D99C-4C70-B3C5-9026AD1C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6765-81F7-4250-AA45-46882712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E12-6E1F-4346-9DE8-96393E9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447-D338-4A4A-A822-8F1D0B62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CB5-C266-486D-9D31-36971704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CD4-A7A7-4967-9F21-0970921D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8F6-42D0-4D28-AB13-608D9433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ADB-21EF-44D1-832E-49BB3338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537-0A4F-4AF1-92CE-FFF44A38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14BE-FF92-46EB-95CA-4010D8999CFA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E0C-2F9A-43DB-98A5-8EE4324C9888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Shelve Me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Put me in the correct Dewey Category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6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118040" cy="53341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7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4427640" cy="57909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8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3833640" cy="4876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9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736720" y="1600200"/>
            <a:ext cx="4484880" cy="5029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749680" y="1600200"/>
            <a:ext cx="3929040" cy="5257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t’s check our answers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0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0200" y="1981080"/>
            <a:ext cx="306216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2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3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59160" y="1447920"/>
            <a:ext cx="4752720" cy="6781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3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1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3617640" cy="55623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4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8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979720" y="1523880"/>
            <a:ext cx="3890880" cy="5029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sp>
        <p:nvSpPr>
          <p:cNvPr id="119" name=""/>
          <p:cNvSpPr/>
          <p:nvPr/>
        </p:nvSpPr>
        <p:spPr>
          <a:xfrm>
            <a:off x="6035760" y="222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Read what kind of books go in each Dewey category on your handout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5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2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62320" y="1981080"/>
            <a:ext cx="4122720" cy="64771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6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4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118040" cy="53341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7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6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4427640" cy="57909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8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5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3833640" cy="4876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9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9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736720" y="1600200"/>
            <a:ext cx="4484880" cy="5029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0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7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749680" y="1600200"/>
            <a:ext cx="3929040" cy="5257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xit Interview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id you like the game?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s there a change you would like to see if we play the game again?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What do the numbers on the boxes on the counter tops have to do with this game?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t’s try again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’ll show you a picture of a book and you write down the Dewey number where you think the book would be shelved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4680" y="1981080"/>
            <a:ext cx="299880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2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3434040" cy="5257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ffe3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ffe3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Dewey Decimal System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000 – Computer science, general information, real life mysteries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100 – Philosophy and psychology (what’s going on in you, 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emotions, behavior and belief system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200 – Religion and Mythology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300 – Social sciences (government, holidays, folk tale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400 – Languages (Spanish, French, sign language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500 – Science and Mathematics (planets, weather, earth, animal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600 – Technology and applied science (inventions,medicine, 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building, transportation, gardening pets, cook 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book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700 – Arts and recreation (drawing, crafts, music, dance, games, 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sport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800 – Literature (plays,poety, jokes, classic literature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900 – History and geography and biography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3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5330880" cy="43671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4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51792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5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3251160" cy="4876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6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82960" y="1981080"/>
            <a:ext cx="358776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7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4720" y="1981080"/>
            <a:ext cx="3710160" cy="44197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8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84400" y="1981080"/>
            <a:ext cx="3468960" cy="44960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9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127320" y="1981080"/>
            <a:ext cx="3048120" cy="4343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628800" cy="4343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Ready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erdana"/>
              </a:rPr>
              <a:t>Let’s check our papers and see how you did this time.</a:t>
            </a:r>
            <a:endParaRPr b="0" lang="en-US" sz="3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1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4680" y="1981080"/>
            <a:ext cx="299880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27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your paper from one to ten.  When each picture comes up write down the number of the Dewey category where you think it would go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2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8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3434040" cy="5257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3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3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5330880" cy="43671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4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6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51792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5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2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3251160" cy="4876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6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4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82960" y="1981080"/>
            <a:ext cx="358776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7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7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844720" y="1981080"/>
            <a:ext cx="3710160" cy="44197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8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8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84400" y="1981080"/>
            <a:ext cx="3468960" cy="44960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9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9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127320" y="1981080"/>
            <a:ext cx="3048120" cy="4343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0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0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628800" cy="4343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xit Interview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Pick two numbers from the Dewey System for arranging books and tell what kind of non fiction books would go in those categories.  Do this from memory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ould some books go in more than one category?  Explain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0200" y="1981080"/>
            <a:ext cx="306216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2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59160" y="1447920"/>
            <a:ext cx="4752720" cy="6781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3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667320" cy="5638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4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9720" y="1523880"/>
            <a:ext cx="3890880" cy="5029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5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62320" y="1981080"/>
            <a:ext cx="4122720" cy="64771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38:08Z</dcterms:created>
  <dc:creator>School Technology</dc:creator>
  <dc:description/>
  <dc:language>en-US</dc:language>
  <cp:lastModifiedBy>School Technology</cp:lastModifiedBy>
  <dcterms:modified xsi:type="dcterms:W3CDTF">2009-01-11T16:47:45Z</dcterms:modified>
  <cp:revision>8</cp:revision>
  <dc:subject/>
  <dc:title>Shelve Me</dc:title>
</cp:coreProperties>
</file>